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70FA-5C0B-40AD-B41D-EAC7DC206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9251-BAFC-45D2-B8FB-F3E30D7DD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B557-4F9D-42E4-A45B-339F95640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A943-BFE9-4026-BCB4-3EC37C554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FD9B-2EAB-472E-8712-4CCAA65D5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07D6-95D2-4BA1-8186-538BF547C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F7CD-E20F-449D-B898-DEDD2140E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EBCCC-6134-475E-A901-C8107202D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F675-2C7F-420A-BEFE-A6056ABC7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070B6-3F90-407E-985A-86338CF57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7F9A-021D-495C-93B7-7658E4D1B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E9C1-116D-4E01-8300-0FD769098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F5B12-66E4-42EC-B822-6A7916020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8FED-392C-4572-9CD8-DECA96B20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D37C-D69A-43E1-9012-00DE21E9A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DBFCB-7BED-4AB8-B1DD-F3AED2168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5B8A4-5759-4714-A0F4-AB29D659D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1BFE-51C9-4859-AEC0-DE5610EF1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3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4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5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6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7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8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0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2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3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4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5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9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1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4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5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6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9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1" name="AutoShape 13"/>
            <p:cNvCxnSpPr>
              <a:stCxn id="312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3" name="AutoShape 17"/>
            <p:cNvCxnSpPr>
              <a:endCxn id="314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7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8" name="AutoShape 51"/>
            <p:cNvCxnSpPr>
              <a:stCxn id="317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9" name="AutoShape 52"/>
            <p:cNvCxnSpPr>
              <a:stCxn id="317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0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4"/>
            <p:cNvCxnSpPr>
              <a:stCxn id="320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5"/>
            <p:cNvCxnSpPr>
              <a:stCxn id="320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3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4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6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8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0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2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6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1028"/>
          <p:cNvSpPr/>
          <p:nvPr/>
        </p:nvSpPr>
        <p:spPr>
          <a:xfrm>
            <a:off x="1072800" y="1027080"/>
            <a:ext cx="47494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3"/>
          <p:cNvSpPr/>
          <p:nvPr/>
        </p:nvSpPr>
        <p:spPr>
          <a:xfrm>
            <a:off x="6502320" y="2324160"/>
            <a:ext cx="1917720" cy="482400"/>
          </a:xfrm>
          <a:prstGeom prst="wedgeRoundRectCallout">
            <a:avLst>
              <a:gd name="adj1" fmla="val -156416"/>
              <a:gd name="adj2" fmla="val 8856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6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7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8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9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0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4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5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6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7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1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3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6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7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8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0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2" name="AutoShape 156"/>
          <p:cNvCxnSpPr>
            <a:stCxn id="143" idx="3"/>
            <a:endCxn id="144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5" name="AutoShape 157"/>
          <p:cNvCxnSpPr>
            <a:stCxn id="146" idx="2"/>
            <a:endCxn id="147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8" name="AutoShape 158"/>
          <p:cNvCxnSpPr>
            <a:stCxn id="146" idx="0"/>
            <a:endCxn id="149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0" name="AutoShape 159"/>
          <p:cNvCxnSpPr>
            <a:stCxn id="151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2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4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5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3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73"/>
          <p:cNvCxnSpPr>
            <a:stCxn id="158" idx="2"/>
            <a:endCxn id="157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0" name="AutoShape 174"/>
          <p:cNvCxnSpPr>
            <a:stCxn id="158" idx="0"/>
            <a:endCxn id="161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1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6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7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8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9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0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4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6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7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1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2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4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5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6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7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8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1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2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3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4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6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0" name="AutoShape 80"/>
          <p:cNvCxnSpPr>
            <a:stCxn id="198" idx="3"/>
            <a:endCxn id="189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81"/>
          <p:cNvCxnSpPr>
            <a:stCxn id="196" idx="3"/>
            <a:endCxn id="189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82"/>
          <p:cNvCxnSpPr>
            <a:stCxn id="189" idx="3"/>
            <a:endCxn id="192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3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4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5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6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7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9" name="AutoShape 90"/>
          <p:cNvCxnSpPr>
            <a:stCxn id="198" idx="1"/>
            <a:endCxn id="205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0" name="AutoShape 91"/>
          <p:cNvCxnSpPr>
            <a:stCxn id="192" idx="1"/>
            <a:endCxn id="208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2"/>
          <p:cNvCxnSpPr>
            <a:stCxn id="198" idx="1"/>
            <a:endCxn id="208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3"/>
          <p:cNvCxnSpPr>
            <a:stCxn id="196" idx="1"/>
            <a:endCxn id="208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94"/>
          <p:cNvCxnSpPr>
            <a:stCxn id="198" idx="2"/>
            <a:endCxn id="199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5"/>
          <p:cNvCxnSpPr>
            <a:stCxn id="199" idx="2"/>
            <a:endCxn id="192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6"/>
          <p:cNvCxnSpPr>
            <a:stCxn id="192" idx="2"/>
            <a:endCxn id="197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7"/>
          <p:cNvCxnSpPr>
            <a:stCxn id="197" idx="2"/>
            <a:endCxn id="196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2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3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4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5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6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0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1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2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3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7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8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9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2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3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4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6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8" name="AutoShape 30"/>
          <p:cNvCxnSpPr>
            <a:stCxn id="259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0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2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3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6" name="AutoShape 40"/>
          <p:cNvCxnSpPr>
            <a:stCxn id="256" idx="1"/>
            <a:endCxn id="260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41"/>
          <p:cNvCxnSpPr>
            <a:stCxn id="268" idx="3"/>
            <a:endCxn id="264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9" name="AutoShape 42"/>
          <p:cNvCxnSpPr>
            <a:stCxn id="263" idx="1"/>
            <a:endCxn id="259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40"/>
          <p:cNvCxnSpPr>
            <a:stCxn id="265" idx="2"/>
            <a:endCxn id="263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1073"/>
          <p:cNvCxnSpPr>
            <a:stCxn id="260" idx="2"/>
            <a:endCxn id="275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1074"/>
          <p:cNvCxnSpPr>
            <a:stCxn id="275" idx="2"/>
            <a:endCxn id="268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AutoShape 1075"/>
          <p:cNvCxnSpPr>
            <a:stCxn id="268" idx="2"/>
            <a:endCxn id="265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1076"/>
          <p:cNvCxnSpPr>
            <a:stCxn id="260" idx="3"/>
            <a:endCxn id="263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0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0:27:08Z</dcterms:created>
  <dc:creator>Anna Keist, Bill Bunton, Charles Wilson</dc:creator>
  <dc:description/>
  <cp:keywords/>
  <dc:language>en-US</dc:language>
  <cp:lastModifiedBy>Charles Wilson</cp:lastModifiedBy>
  <cp:lastPrinted>2008-06-04T21:18:56Z</cp:lastPrinted>
  <dcterms:modified xsi:type="dcterms:W3CDTF">2008-06-05T21:04:24Z</dcterms:modified>
  <cp:revision>85</cp:revision>
  <dc:subject/>
  <dc:title>AT Basic System Example</dc:title>
</cp:coreProperties>
</file>