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2308-DB39-4719-86B6-12EE59ECF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2F3D-EBDE-4B3F-828D-D79F28DC6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C461-F68E-4E7F-8A5E-BE168C52A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82B3-F9F7-42EF-917F-497782F40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55C6-3196-448A-8A8D-782604F70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F834E-ACFE-4D98-9BD0-CB8D84DAB5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B83FD-D7EF-494A-AD29-BDC5E0A678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349F8-8102-46E7-9875-557767E40D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632D5-23B0-4CEE-8BEC-A76A61BE37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B1599-3CC9-4BC5-9F9E-6EE67DD968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178BB-F93B-4B50-8E16-1B4706CCDD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46CA4-0A1A-4301-AFB7-B3291029AE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5DAD5-E356-4E00-A3AB-D778FAF845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F3D65-C2FA-48F6-9A52-78BEEA2016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E61F6-D99E-4042-A1F3-BDB0BC315F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92DEA-773A-43F1-969A-336B29D11D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4DF9F-FFB8-4D8D-93F1-01CBD4ACB0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CFFD-C81F-4C01-BD5A-AD24EFD48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5744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Charles Wilson</cp:lastModifiedBy>
  <dcterms:modified xsi:type="dcterms:W3CDTF">2008-06-02T13:26:47Z</dcterms:modified>
  <cp:revision>81</cp:revision>
  <dc:subject/>
  <dc:title>AT Basic System Example</dc:title>
</cp:coreProperties>
</file>