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9F373-542A-472D-8D30-BDC18F0A85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ADA65-B91D-4F03-BE8F-6ADF0DC17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D7731-B7EC-4993-B513-27F7066CE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9F9E2-E1EC-406A-852D-CF82B19E11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E29BB-F2BE-463E-A5A7-18711956E0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FC65A-7AF5-4287-A51F-7CDC3898CC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8128E-6329-4A41-A82A-A1E03BDA7F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5B171-8471-422A-9224-514036EB6D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EB447-DECA-43A1-8105-D1366493E1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5A15E-4487-4317-A016-34D62D5916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9B855-D9A5-4616-8BD6-AEF1E6A42D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A7686-E379-4F63-939E-1229CF5EF3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FB17B-D0FF-4DF0-9A63-33D6EE78D9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45553-8CA4-40A8-A72B-9C488AC05D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A2FC5-4FF9-4476-8FA8-3E0D3B9BA9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4515E-7091-446E-BAD0-2ABFE5FAEC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EB9A9-615A-4CB2-A947-E449E2230D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F408A-2992-4C97-8C3F-25B3AF0625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18:56Z</cp:lastPrinted>
  <dcterms:modified xsi:type="dcterms:W3CDTF">2009-06-26T16:59:39Z</dcterms:modified>
  <cp:revision>87</cp:revision>
  <dc:subject/>
  <dc:title>AT Basic System Example</dc:title>
</cp:coreProperties>
</file>