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3C5F-8578-44B3-8339-E5526F47D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1751-331E-40B9-84FC-E91E30AD4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EB88-3F9C-4BAA-95B7-CFB1BE4D6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EB2F-A8F1-4995-A46B-F7432AEF2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94F4-2419-46FB-B4FB-0D4B71F3D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19FC-6D6E-4CC9-A82F-8A1DC692F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E78EC-A23C-4D93-9CF1-84D6664528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1FEFD-79A7-40F9-A91F-53EFB202E4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9489E-C709-4499-9785-6017388B86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35DA5-41F2-416F-A5E0-A6ACDE8A21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6C238-3878-4750-9B09-E49D8DD2F0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1FAC3-889E-4889-9998-833496869E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78437-F81C-4C07-A699-35ABF76293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A9A7F-DE32-43CD-92F8-A952027CA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CCECC-B4E5-4CC4-9608-F3D992280B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313C0-060A-4D0E-AC20-17A729FE88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5D3BF-2C27-4C4B-8216-AE45727C07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FC285-C164-4D01-B850-C24D91404F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C462-B767-4C19-980F-9DD0AD807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ameter Value Change callback</a:t>
            </a:r>
            <a:br>
              <a:rPr sz="2600"/>
            </a:br>
            <a:br>
              <a:rPr sz="2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eshadri Chakravart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rameter Value Change callba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requesting and responding to value change notific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module creates couple of parameters and sets callbacks on both of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param_1, the user module would allow value change without any constrai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param_2, the user module would reject value change unconditional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2" name="Picture 4" descr="cci_ex8.jpeg"/>
          <p:cNvPicPr/>
          <p:nvPr/>
        </p:nvPicPr>
        <p:blipFill>
          <a:blip r:embed="rId1"/>
          <a:stretch/>
        </p:blipFill>
        <p:spPr>
          <a:xfrm>
            <a:off x="138240" y="700200"/>
            <a:ext cx="8867520" cy="545760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7"/>
          <p:cNvSpPr/>
          <p:nvPr/>
        </p:nvSpPr>
        <p:spPr>
          <a:xfrm>
            <a:off x="2093760" y="5370480"/>
            <a:ext cx="6921720" cy="689040"/>
          </a:xfrm>
          <a:prstGeom prst="leftArrowCallout">
            <a:avLst>
              <a:gd name="adj1" fmla="val 14751"/>
              <a:gd name="adj2" fmla="val 25000"/>
              <a:gd name="adj3" fmla="val 123243"/>
              <a:gd name="adj4" fmla="val 365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Observe that since write is rejec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for param_2 reject_write callback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no other callbacks are trigger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br>
              <a:rPr sz="32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08_Parameter_Value_Change_Callbacks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1 (1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@Ctor: Value of sim_ip.param_1 is 1 (Default value Specified: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2 (2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@Ctor: Value of sim_ip.param_2 is 2 (Default value Specified: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Set value of sim_ip.param_1 to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write_callback:sim_ip.param_1 (1 -&gt; 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ost_write_callback:sim_ip.param_1 (1 -&gt; 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1 (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Current value of sim_ip.param_1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Set value of sim_ip.param_2 to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reject_pre_write_callback: Rejecting Value change on sim_ip.param_2 (2 -&gt; 2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0 s, Caught exception: Error: /Accellera/CCI/SET_PARAM_FAILED: Value rejected by callback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2 (2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cfg_ip: @0 s, config_ip::end_of_elaboration: [EXTERNAL] Current value of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1 (10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Dtor: Value of sim_ip.param_1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2 (2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Dtor: Value of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5T20:36:41Z</dcterms:modified>
  <cp:revision>149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0:36:41Z</vt:lpwstr>
  </property>
  <property fmtid="{D5CDD505-2E9C-101B-9397-08002B2CF9AE}" pid="5" name="TitusGUID">
    <vt:lpwstr>e91f1e81-ec8b-4b29-aa9d-61454af1454c</vt:lpwstr>
  </property>
</Properties>
</file>