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05D15-116E-4A65-9C8B-0E233BFA7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1B926-B13F-480C-8102-C814E3A542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10558-27E6-4360-8FE9-7881504CE8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0357C-56EC-417C-AC14-FB19208E1F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77AD2-7566-41D2-81F5-C8DE8B019B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FADB4-80BE-4F19-A3B0-6E16363F71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2CF5E-BF2F-4E6F-851B-712B1AF5BA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0AA9B-1E83-40F2-B8D4-9DFEEF8EBF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7414C-EC18-4A81-8C29-A8169315D6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E631A-D772-40ED-A789-C3381BC07A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B106F-A1D7-431C-BAF5-C4C5C0612D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F89FA-69CF-466A-8289-EAC0B04F84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6CC9B-6638-4E7F-9F5B-A1BBF2BD41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A3399-6A44-4ED0-A1AD-F884D5CED5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1F250-BD5D-49CF-B857-0B1A1E0BBB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2AA09-F940-40BD-B7E0-4B45339975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A5FB6-204F-4607-95F4-0B4E59EC83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08B97-3511-4F6C-B287-AF5E8C17D7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1A8E6-94C2-4A8D-AF16-01D144208F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1F48C-4C39-4F33-A626-35B56785E8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230CF-5D7E-490D-9DBB-B7E2C468F4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7302C-B04B-4D82-9E2C-0078D1D1B7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2318D-B4CB-4E68-A5B0-0D382CED00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2D830-44F6-46B2-9E87-51F9C3224C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75B98-7BEC-427C-9FE7-8D1BA555CC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C89AE-28A0-450D-ABC0-3CF27548BE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BC7F9-9751-4FD5-8E6E-47934D2921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19584-DA0C-40C9-94C6-8DEFA4A585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D4629-CA2D-421C-BC33-503FC9E9FB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661F3-D9E4-44F5-BF47-3309B6B875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77A22-A6E0-4EC4-BBA6-324BF5A928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04E0-9E1D-42D4-9D45-0CC6E31AA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9CAB-B75E-4A71-8807-D2DBC022D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C93A-A0AD-4194-B08C-48CA84D5E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F99D-A300-4384-98C1-A4F03499F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0FE6-D16B-4A8E-8CE1-484CDB8EE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1509-7BF4-4D68-8C83-6E7129A240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988C8-BCA5-488E-A013-5B6BA15F1B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0BB76-A0D1-410B-A67F-6649B35ED4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DA2D6-AA19-4C0F-8127-C7CF65F278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0B72E-8D94-448D-807E-3FBBA82D8C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CFE95-D560-46CB-BD7E-C0880FD171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AE686-05F2-4972-A59B-2C8E7D0B86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B9B09-485A-438A-BBDD-7F4906E2E9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D0D36-9E75-494A-BF18-5C28E72826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8A871-F539-4975-882E-6EBEBB8255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A64CA-1443-4623-9779-A34383E5F6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DBBBA-17AF-4932-84ED-2610FC7A8C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F8D27-080D-40AC-A4E6-70D0B1084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A85A-79B4-468A-BAAC-D17FE4B37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54E4-A48F-4A17-8EB5-D312A71FC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7C30-226B-4134-AF1C-1948B57A1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CD94-5DA1-4C80-B310-8CB92EDFC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55E1-6C1F-47A9-8490-948E464F1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914A-3F4C-4EBE-A226-65F88EEAC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FACC4-6C61-4431-B860-FB385B0605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D7131EE0-C33A-4BD6-B7CB-93B401B3F2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earching and 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Searching &amp; 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Searching_and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  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 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 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 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05T20:28:14Z</cp:lastPrinted>
  <dcterms:modified xsi:type="dcterms:W3CDTF">2017-12-16T22:24:22Z</dcterms:modified>
  <cp:revision>25</cp:revision>
  <dc:subject/>
  <dc:title>ex11_Searching_and_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24:21Z</vt:lpwstr>
  </property>
  <property fmtid="{D5CDD505-2E9C-101B-9397-08002B2CF9AE}" pid="5" name="TitusGUID">
    <vt:lpwstr>3cb855b7-0950-486a-ab41-5d5a221903ba</vt:lpwstr>
  </property>
</Properties>
</file>