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2187-48CA-40BA-AE19-805A22661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61D0-3E2E-4241-85D2-3DC81D605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FCE1-7734-4D93-AAB4-9039ED741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9E93-E60C-4DAF-B9C2-7ED84F3B9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3894-0B1F-4850-A34C-895A29E53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5A9E-83E6-4FF8-80B6-9D36E8EB0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D70B2-D8C7-4C81-986B-7AC7AA6EC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BACE3-D0DE-4CFA-B1CD-7FAF2284C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0984D-E625-4B77-B7EF-B2DCC11F9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B3ED6-6452-46DF-9736-5A5633C5F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3B08-D5F5-4B44-A537-13C5EDA6B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3F83A-21F8-4836-8902-54F06818E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EC2FD-9EB6-43F8-95F6-6872466BE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DA04C-C67C-4FE0-8ADA-F62BA66A7E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BC41F-7A3A-4C13-90C3-804C28DDC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266F-BCB5-465B-A348-2940E39CA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1AC0E-E9BE-4E6F-A6E4-F47127901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F406-F8EF-450C-ACAA-19573BA68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Mutable Integer Parameter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. Swaminath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asic usage of a Mutable Integer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the parameter’s default value following co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No preset value is supplied in this examp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(directly) from within the owning mo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from a different module, referred to as “EXTERN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quires obtaining a parameter handle from the bro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09760" y="213048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673200" y="1724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518120" cy="483840"/>
            <a:chOff x="3107880" y="3011400"/>
            <a:chExt cx="1518120" cy="483840"/>
          </a:xfrm>
        </p:grpSpPr>
        <p:sp>
          <p:nvSpPr>
            <p:cNvPr id="100" name="Rectangle 32"/>
            <p:cNvSpPr/>
            <p:nvPr/>
          </p:nvSpPr>
          <p:spPr>
            <a:xfrm>
              <a:off x="3129480" y="3011400"/>
              <a:ext cx="1496520" cy="47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484440"/>
              <a:ext cx="1518480" cy="1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65200" y="333684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674640" y="437976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1"/>
          <p:cNvSpPr/>
          <p:nvPr/>
        </p:nvSpPr>
        <p:spPr>
          <a:xfrm>
            <a:off x="3208320" y="1776240"/>
            <a:ext cx="2019240" cy="289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2"/>
          <p:cNvSpPr/>
          <p:nvPr/>
        </p:nvSpPr>
        <p:spPr>
          <a:xfrm>
            <a:off x="3219480" y="2689200"/>
            <a:ext cx="118116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 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Folded Corner 43"/>
          <p:cNvSpPr/>
          <p:nvPr/>
        </p:nvSpPr>
        <p:spPr>
          <a:xfrm>
            <a:off x="4068720" y="4307040"/>
            <a:ext cx="3745080" cy="3222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_param_hand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set_cci_value (cci::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01_Simple_Int_Param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514520"/>
            <a:ext cx="8686800" cy="27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0 s, Ctor: Default value of sim_ip.int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Set value of int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Current value of int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Dtor: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0-04T18:08:29Z</dcterms:modified>
  <cp:revision>141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16:32:25Z</vt:lpwstr>
  </property>
  <property fmtid="{D5CDD505-2E9C-101B-9397-08002B2CF9AE}" pid="5" name="TitusGUID">
    <vt:lpwstr>e3de821b-1c25-48f5-972a-c3014a611f88</vt:lpwstr>
  </property>
</Properties>
</file>