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0585-D8F9-4D93-BFC2-3BFD15C5B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4EA0-4E19-41DF-8088-94B7D7E12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8952-D8F6-4BD2-AFAB-FD41C0AEE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B1785-7E82-424F-9D06-1858891E9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2261-79F4-4A76-918A-3DFC0663D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CFB0-8223-4200-B0B8-E170EE6B6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FC47F-2195-45D0-9524-1D68516A7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8C4D5-30C3-48D2-885B-151CD938F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5FF8-0D7C-426E-A79C-5054F11C0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5EEEC-7911-49BC-B95F-9278D8B29B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220A-06DB-4E06-B4B0-F6EB1E816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5834-656B-4BF3-8664-7B4D03B38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F93E2-DB5E-4C1E-B7DC-929A374E6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D12C-522C-453B-933C-052F577FB5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0778-D2A0-482D-8C21-7F7F8ECB1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55EE-F135-4A67-AF46-76F3BD1D0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ile and Run CCI Example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i Lia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sson 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vironments Used For This Descri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16.04 LTS 64 b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c 5.4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GLIBC 2.23-0ubuntu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2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Studio Professional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1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1: Installations of SystemC and boost libraries are not covered in this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2: Instructions will need to be adapted for other configu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87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cci-0.9.0_pub_rev_20171217.tg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…/rapidjson-1.1.0.tar.gz -C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rmdir rapidjson; ln –s rapidjson-1.1.0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See cci-0.9.0_pub_rev_20171217/README.txt for instructions to download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he environment variables 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SYSTEMC_HOME=/home/lei/Downloads/systemc-2.3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TLM_HOME="${SYSTEMC_HOME}/src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vobs/ti_systemc/tools/boost/boost_1_44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home/lei/Downloads/boost_1_62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CI_HOME=/home/lei/Downloads/cci-0.9.0_pub_rev_201712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XX=g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You can find a half-done script at cci_test/scripts/source.bas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src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packages/gs_brok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(contd.. 1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 the directory for compilation and ru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$CCI_HOME/cci_test/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mkdir 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./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all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one specified example with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/ex01_Simple_Int_Par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$CCI_HOME/scripts/README_CCI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structions will be similar to those for Linux on slide #3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use 7-Zip to uncompress the kit (required due to long path nam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 from Visual Studio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 (or rename) the top-level msvc10 directory to msvc14 to reflect VS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ual Studio -&gt; File -&gt; Open -&gt; Project/Solution-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“C:\cci-0.9.0_pub_rev_20171217\msvc14\cci\cci.sln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projects will be shown and they share the same property sheet ‘cci_lib.props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the property sh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-&gt; Property Manag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 click on cci_li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Macr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Val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is demo, msvc10 -&gt; msvc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your windows environ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s for Boost and System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529240" y="3657600"/>
            <a:ext cx="32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 (contd.. 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 to Visual Studio Solution and build “cciapi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examples from solution explo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 CCI solution, all example projects can be compiled and run di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if all libraries(CCI, SystemC, Boost) environment variables are set cor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C:\cci_code\cci_test\msvc14\cci\README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2-19T20:41:36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9 20:41:36Z</vt:lpwstr>
  </property>
  <property fmtid="{D5CDD505-2E9C-101B-9397-08002B2CF9AE}" pid="5" name="TitusGUID">
    <vt:lpwstr>e3de821b-1c25-48f5-972a-c3014a611f88</vt:lpwstr>
  </property>
</Properties>
</file>